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3C78D8-32CD-496E-B94E-CB6A13F69E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13BD5-34EF-4DB3-9569-E184D5307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F5C11E-38CE-4FE1-92D5-5FAD2AD2F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73CC18-30E2-457B-9C24-7824C54946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B8199-7376-42C9-9647-29FD39656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E0DC1-82DC-4A66-BACC-4D1BC454F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79057-373E-4E21-8A83-B4DE72F40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3A924-5391-4F2A-9F2B-593D7D65F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4D3D0-FF27-42A1-A896-45EEAC70A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FAF0F-AF10-44CE-9F1E-74C461AEE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3873E-FB22-4120-8A35-0F81C586F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54855-AFE3-47CF-8CFD-7155C88FAD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DC4C1-4141-4786-996B-5AED40AE7D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ry Map</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y Salazar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tle: “Children Of The Se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ldren Of The Sea</a:t>
            </a:r>
            <a:endParaRPr b="0" lang="en-US" sz="4400" spc="-1" strike="noStrike">
              <a:solidFill>
                <a:srgbClr val="000000"/>
              </a:solidFill>
              <a:latin typeface="Arial"/>
            </a:endParaRPr>
          </a:p>
        </p:txBody>
      </p:sp>
      <p:pic>
        <p:nvPicPr>
          <p:cNvPr id="45" name="" descr=""/>
          <p:cNvPicPr/>
          <p:nvPr/>
        </p:nvPicPr>
        <p:blipFill>
          <a:blip r:embed="rId1"/>
          <a:stretch/>
        </p:blipFill>
        <p:spPr>
          <a:xfrm>
            <a:off x="155520" y="46080"/>
            <a:ext cx="9753480" cy="7315200"/>
          </a:xfrm>
          <a:prstGeom prst="rect">
            <a:avLst/>
          </a:prstGeom>
          <a:ln w="0">
            <a:noFill/>
          </a:ln>
        </p:spPr>
      </p:pic>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ten by Edwidge Dantic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lived in Haiti.</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acters</a:t>
            </a:r>
            <a:endParaRPr b="0" lang="en-US" sz="4400" spc="-1" strike="noStrike">
              <a:solidFill>
                <a:srgbClr val="000000"/>
              </a:solidFill>
              <a:latin typeface="Arial"/>
            </a:endParaRPr>
          </a:p>
        </p:txBody>
      </p:sp>
      <p:pic>
        <p:nvPicPr>
          <p:cNvPr id="48" name="" descr=""/>
          <p:cNvPicPr/>
          <p:nvPr/>
        </p:nvPicPr>
        <p:blipFill>
          <a:blip r:embed="rId1"/>
          <a:stretch/>
        </p:blipFill>
        <p:spPr>
          <a:xfrm>
            <a:off x="155520" y="46080"/>
            <a:ext cx="9753480" cy="5857920"/>
          </a:xfrm>
          <a:prstGeom prst="rect">
            <a:avLst/>
          </a:prstGeom>
          <a:ln w="0">
            <a:noFill/>
          </a:ln>
        </p:spPr>
      </p:pic>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ir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dam Rodge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Girls Mother &amp; fa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228600"/>
            <a:ext cx="11810880" cy="70866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tting was set on Land in Hai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tting was also on a bo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10896480" cy="685800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ot </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eople who live in Haiti were being mistreated. They were being mistreated by the macouts. Since they were being mistreated so they decided to escape.The people were trying to escape to the U.S. They left on a boat &amp; it caused them to suffer because they had no food or supplies for them selves they didn’t even take showers, there was also no water people also got dehydrated &amp; died some just killed themselv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al Opinion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enjoyed reading this story. I have learned something good from this story, what I have learned is even if you were being hurt or mistreated don’t leave somewhere without planning it out because you don’t know what you can bump in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5T19:39:48Z</dcterms:created>
  <dc:creator>Administrator</dc:creator>
  <dc:description/>
  <dc:language>en-US</dc:language>
  <cp:lastModifiedBy>Administrator</cp:lastModifiedBy>
  <dcterms:modified xsi:type="dcterms:W3CDTF">2010-11-05T20:03:21Z</dcterms:modified>
  <cp:revision>2</cp:revision>
  <dc:subject/>
  <dc:title>Story Map</dc:title>
</cp:coreProperties>
</file>